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24AE-8F4A-418E-BE9D-6C3FAD0C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6007-AEB4-4053-9A96-DAE3479B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2E08-2CB6-4AF2-89E9-C9BDAC46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369E-EB13-41F1-9D0F-713F691EC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2432-CE7B-4224-BF14-047D72FA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209A-5327-423E-8132-A38A6690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6FDF-1C98-4CC3-9168-688960E5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FE18-1445-40A7-97AF-4AF08D7F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25B5-3A0C-4C58-9723-6E9D41C1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222F-CEE3-48F6-BA63-D33D7DAC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8541-208B-4603-BB18-7E12169A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4928-4089-422E-99D8-9A03A9B1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E383BC35-204E-4A1C-BB20-43155C360400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886880" cy="204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a-IR" sz="3300" spc="-1" strike="noStrike">
                <a:solidFill>
                  <a:srgbClr val="000000"/>
                </a:solidFill>
                <a:latin typeface="Calibri Light"/>
                <a:cs typeface="B Nazanin"/>
              </a:rPr>
              <a:t>راهنمای ثبت آموزش های گروهی برنامه های سلامت خانواده در سامانه سیب </a:t>
            </a:r>
            <a:br>
              <a:rPr sz="3300"/>
            </a:br>
            <a:br>
              <a:rPr sz="3300"/>
            </a:br>
            <a:r>
              <a:rPr b="0" lang="fa-IR" sz="3300" spc="-1" strike="noStrike">
                <a:solidFill>
                  <a:srgbClr val="000000"/>
                </a:solidFill>
                <a:latin typeface="Calibri Light"/>
                <a:cs typeface="B Nazanin"/>
              </a:rPr>
              <a:t>تیر ماه </a:t>
            </a:r>
            <a:r>
              <a:rPr b="0" lang="fa-IR" sz="3300" spc="-1" strike="noStrike">
                <a:solidFill>
                  <a:srgbClr val="000000"/>
                </a:solidFill>
                <a:latin typeface="Calibri Light"/>
                <a:ea typeface="B Nazanin"/>
              </a:rPr>
              <a:t>1402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نحوه ثبت شرکت کنندگان در دوره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4" name="Content Placeholder 3" descr=""/>
          <p:cNvPicPr/>
          <p:nvPr/>
        </p:nvPicPr>
        <p:blipFill>
          <a:blip r:embed="rId1"/>
          <a:srcRect l="4260" t="18133" r="2270" b="35728"/>
          <a:stretch/>
        </p:blipFill>
        <p:spPr>
          <a:xfrm>
            <a:off x="87480" y="1989000"/>
            <a:ext cx="89690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fa-IR" sz="3300" spc="-1" strike="noStrike">
              <a:solidFill>
                <a:srgbClr val="000000"/>
              </a:solidFill>
              <a:latin typeface="Calibri Light"/>
              <a:ea typeface="Times New Roman"/>
            </a:endParaRPr>
          </a:p>
        </p:txBody>
      </p:sp>
      <p:pic>
        <p:nvPicPr>
          <p:cNvPr id="76" name="Content Placeholder 3" descr=""/>
          <p:cNvPicPr/>
          <p:nvPr/>
        </p:nvPicPr>
        <p:blipFill>
          <a:blip r:embed="rId1"/>
          <a:srcRect l="3262" t="8588" r="1276" b="35728"/>
          <a:stretch/>
        </p:blipFill>
        <p:spPr>
          <a:xfrm>
            <a:off x="250920" y="1916280"/>
            <a:ext cx="89186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fa-IR" sz="3300" spc="-1" strike="noStrike">
              <a:solidFill>
                <a:srgbClr val="000000"/>
              </a:solidFill>
              <a:latin typeface="Calibri Light"/>
              <a:ea typeface="Times New Roman"/>
            </a:endParaRPr>
          </a:p>
        </p:txBody>
      </p:sp>
      <p:pic>
        <p:nvPicPr>
          <p:cNvPr id="78" name="Content Placeholder 3" descr=""/>
          <p:cNvPicPr/>
          <p:nvPr/>
        </p:nvPicPr>
        <p:blipFill>
          <a:blip r:embed="rId1"/>
          <a:srcRect l="3262" t="8588" r="1276" b="40503"/>
          <a:stretch/>
        </p:blipFill>
        <p:spPr>
          <a:xfrm>
            <a:off x="179280" y="115920"/>
            <a:ext cx="8713800" cy="3457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316080" y="3860640"/>
            <a:ext cx="86994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90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a-IR" sz="2400" spc="-1" strike="noStrike">
                <a:solidFill>
                  <a:srgbClr val="003296"/>
                </a:solidFill>
                <a:latin typeface="Calibri Light"/>
                <a:cs typeface="B Nazanin"/>
              </a:rPr>
              <a:t>امکان ثبت دوره های آموزش در سامانه سیب و امکان گزارش گیری در سامانه راستی آزمایی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-360" y="1052280"/>
            <a:ext cx="90010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1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با کاربر ارائه دهندگان خدمت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 منوی ارائه خدمت – سفیران سلامت – دوره های آموزش گروهی (ثبت دوره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1"/>
          <a:srcRect l="34465" t="7643" r="0" b="31878"/>
          <a:stretch/>
        </p:blipFill>
        <p:spPr>
          <a:xfrm>
            <a:off x="4756320" y="2201760"/>
            <a:ext cx="4244760" cy="244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rcRect l="33320" t="8185" r="0" b="30063"/>
          <a:stretch/>
        </p:blipFill>
        <p:spPr>
          <a:xfrm>
            <a:off x="63360" y="3933720"/>
            <a:ext cx="460224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90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3296"/>
                </a:solidFill>
                <a:latin typeface="Calibri Light"/>
                <a:cs typeface="B Nazanin"/>
              </a:rPr>
              <a:t>امکان ثبت دوره های آموزش گروهی در سامانه سیب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Content Placeholder 3" descr=""/>
          <p:cNvPicPr/>
          <p:nvPr/>
        </p:nvPicPr>
        <p:blipFill>
          <a:blip r:embed="rId1"/>
          <a:srcRect l="0" t="7282" r="2341" b="5405"/>
          <a:stretch/>
        </p:blipFill>
        <p:spPr>
          <a:xfrm>
            <a:off x="-25560" y="1020600"/>
            <a:ext cx="9277560" cy="5185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4560"/>
            <a:ext cx="790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نحوه </a:t>
            </a:r>
            <a:r>
              <a:rPr b="0" lang="fa-IR" sz="2400" spc="-1" strike="noStrike">
                <a:solidFill>
                  <a:srgbClr val="003296"/>
                </a:solidFill>
                <a:latin typeface="Calibri Light"/>
                <a:cs typeface="B Nazanin"/>
              </a:rPr>
              <a:t>ثبت دوره ی جدید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181440" y="1031400"/>
            <a:ext cx="900108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1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تاریخ شروع دوره: قابلیت ثبت دوره برای تاریخ قبل، حال و آیند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2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عنوان دوره : انتخابی است – به عناون مثال : تایپ سالمند و انتخاب گزینه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ea typeface="B Nazanin"/>
              </a:rPr>
              <a:t>"سالمندی سالم (برنامه هر خانه یک پایگاه سلامت)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3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محل ارائه خدمت : انتخابی اس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rcRect l="49811" t="26809" r="3344" b="42258"/>
          <a:stretch/>
        </p:blipFill>
        <p:spPr>
          <a:xfrm>
            <a:off x="2484360" y="1903320"/>
            <a:ext cx="4535640" cy="18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rcRect l="25911" t="32251" r="18627" b="29379"/>
          <a:stretch/>
        </p:blipFill>
        <p:spPr>
          <a:xfrm>
            <a:off x="468360" y="4626000"/>
            <a:ext cx="499428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55280" y="883800"/>
            <a:ext cx="5929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مهم ترین فیلد برای ثبت و گزارش گیری </a:t>
            </a:r>
            <a:br>
              <a:rPr sz="1800"/>
            </a:b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عنوان محل ارائه خدمت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08000" y="1630440"/>
            <a:ext cx="6750000" cy="37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300" spc="-1" strike="noStrike">
                <a:solidFill>
                  <a:srgbClr val="000000"/>
                </a:solidFill>
                <a:latin typeface="Trebuchet MS"/>
                <a:ea typeface="B Nazanin"/>
              </a:rPr>
              <a:t>4- </a:t>
            </a:r>
            <a:r>
              <a:rPr b="1" lang="fa-IR" sz="1300" spc="-1" strike="noStrike">
                <a:solidFill>
                  <a:srgbClr val="000000"/>
                </a:solidFill>
                <a:latin typeface="Trebuchet MS"/>
                <a:cs typeface="B Nazanin"/>
              </a:rPr>
              <a:t>عنوان محل ارائه خدمت : غیر انتخابی و باید کلمه کلیدی به عنوان مثال ورزش تایپ شود</a:t>
            </a:r>
            <a:r>
              <a:rPr b="1" lang="fa-IR" sz="1300" spc="-1" strike="noStrike">
                <a:solidFill>
                  <a:srgbClr val="000000"/>
                </a:solidFill>
                <a:latin typeface="Trebuchet MS"/>
                <a:ea typeface="B Nazani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300" spc="-1" strike="noStrike">
                <a:solidFill>
                  <a:srgbClr val="000000"/>
                </a:solidFill>
                <a:latin typeface="Trebuchet MS"/>
                <a:ea typeface="B Nazani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1143000" y="2293920"/>
            <a:ext cx="6939000" cy="22035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"/>
          <p:cNvSpPr/>
          <p:nvPr/>
        </p:nvSpPr>
        <p:spPr>
          <a:xfrm>
            <a:off x="1763640" y="3537000"/>
            <a:ext cx="1079640" cy="43164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500" spc="-1" strike="noStrike">
                <a:solidFill>
                  <a:srgbClr val="ffffff"/>
                </a:solidFill>
                <a:latin typeface="Calibri"/>
                <a:cs typeface="B Mitra"/>
              </a:rPr>
              <a:t>فعالیت بدن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34560"/>
            <a:ext cx="790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ثبت ظرفیت، گروه مخاطب و بسته کمک آموزشی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181440" y="1031400"/>
            <a:ext cx="932508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5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ظرفیت :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غیر انتخابی و لزوم ثبت افراد فراخوان شده و سپس حضور یافت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6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گروه مخاطب: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انتخابی است و از بین گزینه ها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ea typeface="B Nazanin"/>
              </a:rPr>
              <a:t>"سایر"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را انتخاب نمایی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والدین، کارمند، عموم مردم، سفیر سلامت خانواده، رابط سلامت،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سای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7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بسته کمک آموزشی: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انتخابی است و بسته به مورد، انتخاب می شود.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پمفلت،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CD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 ، کتابچه، سایر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rcRect l="64601" t="25843" r="4176" b="25927"/>
          <a:stretch/>
        </p:blipFill>
        <p:spPr>
          <a:xfrm>
            <a:off x="-36360" y="1030320"/>
            <a:ext cx="3068640" cy="274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rcRect l="50003" t="25986" r="4546" b="32806"/>
          <a:stretch/>
        </p:blipFill>
        <p:spPr>
          <a:xfrm>
            <a:off x="22320" y="4221000"/>
            <a:ext cx="431964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34560"/>
            <a:ext cx="790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ثبت ظرفیت، گروه مخاطب و بسته کمک آموزشی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181440" y="765000"/>
            <a:ext cx="9325080" cy="49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8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شیوه آموزش :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انتخابی است و از بین گزینه های، پرسش و پاسخ انتخاب شو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9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کد ملی مسئول دوره: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کد ملی پزشک مسئول مرکز یا یکی از ارائه دهنده خدمت ثبت شو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تایپ شو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10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شماره ملی مدرس: 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الزامی اس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11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 –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ساعت شروع و پایان دوره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: الزامی و هم قابل تایپ و هم انتخاب اس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1"/>
          <a:srcRect l="31858" t="26507" r="3612" b="28644"/>
          <a:stretch/>
        </p:blipFill>
        <p:spPr>
          <a:xfrm>
            <a:off x="971640" y="1292400"/>
            <a:ext cx="4475160" cy="1944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55280" y="883800"/>
            <a:ext cx="5929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مهم ترین فیلد برای ثبت و گزارش گیری </a:t>
            </a:r>
            <a:br>
              <a:rPr sz="1800"/>
            </a:b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عنوان محل ارائه خدمت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008000" y="1630440"/>
            <a:ext cx="6750000" cy="37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300" spc="-1" strike="noStrike">
                <a:solidFill>
                  <a:srgbClr val="000000"/>
                </a:solidFill>
                <a:latin typeface="Trebuchet MS"/>
                <a:ea typeface="B Nazani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rcRect l="4113" t="17780" r="1761" b="11376"/>
          <a:stretch/>
        </p:blipFill>
        <p:spPr>
          <a:xfrm>
            <a:off x="1185840" y="1531800"/>
            <a:ext cx="6797520" cy="4057920"/>
          </a:xfrm>
          <a:prstGeom prst="rect">
            <a:avLst/>
          </a:prstGeom>
          <a:ln w="0">
            <a:noFill/>
          </a:ln>
        </p:spPr>
      </p:pic>
      <p:sp>
        <p:nvSpPr>
          <p:cNvPr id="66" name="Rounded Rectangle 6"/>
          <p:cNvSpPr/>
          <p:nvPr/>
        </p:nvSpPr>
        <p:spPr>
          <a:xfrm>
            <a:off x="4896000" y="5275440"/>
            <a:ext cx="593640" cy="27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0000"/>
                </a:solidFill>
                <a:latin typeface="Calibri"/>
              </a:rPr>
              <a:t>ورز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709640" y="2673360"/>
            <a:ext cx="971640" cy="2160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500" spc="-1" strike="noStrike">
                <a:solidFill>
                  <a:srgbClr val="ffffff"/>
                </a:solidFill>
                <a:latin typeface="Calibri"/>
                <a:cs typeface="B Mitra"/>
              </a:rPr>
              <a:t>فعالیت بدن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4410000" y="4811760"/>
            <a:ext cx="1079640" cy="2808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500" spc="-1" strike="noStrike">
                <a:solidFill>
                  <a:srgbClr val="ffffff"/>
                </a:solidFill>
                <a:latin typeface="Calibri"/>
                <a:cs typeface="B Mitra"/>
              </a:rPr>
              <a:t>فعالیت بدن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4410000" y="5232240"/>
            <a:ext cx="1079640" cy="30024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500" spc="-1" strike="noStrike">
                <a:solidFill>
                  <a:srgbClr val="ffffff"/>
                </a:solidFill>
                <a:latin typeface="Calibri"/>
                <a:cs typeface="B Mitra"/>
              </a:rPr>
              <a:t>فعالیت بدن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نحوه ثبت شرکت کنندگان در دوره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1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1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با کاربر ارائه دهندگان خدمت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 منوی ارائه خدمت – سفیران سلامت – دوره های آموزش گروهی (فهرست دوره ها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rcRect l="32378" t="7509" r="1711" b="31441"/>
          <a:stretch/>
        </p:blipFill>
        <p:spPr>
          <a:xfrm>
            <a:off x="457200" y="2565360"/>
            <a:ext cx="712944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.R.I</cp:lastModifiedBy>
  <dcterms:modified xsi:type="dcterms:W3CDTF">2024-09-18T04:30:33Z</dcterms:modified>
  <cp:revision>615</cp:revision>
  <dc:subject/>
  <dc:title>Diapositiva 1</dc:title>
</cp:coreProperties>
</file>